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076C-878B-474E-B9A4-2E4CA91A24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2396-9597-488D-BC8E-8EBD3FF6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6F29-B60D-4F66-958E-5DCBA4A3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BE5C3-9B2C-4675-9739-475E0EA77E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E27C-6D6D-4432-9C73-29A2F355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FDEE-B7C6-42D4-B660-DE0913EB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0BF8B-F366-4457-97B5-9A5BF2F1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9E9A1-8AF3-4BAC-B155-276B8F9A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0350-3585-4A37-AEEA-556DE310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FD476-BA01-45E4-9242-DF312D8D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B195C-AC4A-44DE-A7CF-989A1547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4454B-5DD9-4D29-9267-ADB240A5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267080" y="6172200"/>
            <a:ext cx="567000" cy="57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05720" y="632412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EAA8-208E-41F8-8C91-B54C709D1CF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228240" y="6325920"/>
            <a:ext cx="213372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 – EEE3017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. Verrinder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495680" y="6095880"/>
            <a:ext cx="567000" cy="574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9080" y="696600"/>
            <a:ext cx="7808760" cy="29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228240" y="6325920"/>
            <a:ext cx="213372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 – EEE3017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. Verrinder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I2C.sv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Opencollector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Inter Integrated Circuit Bu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protocol was developed by Philips and is a registered trade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sometimes referred to as a “2 wire interfa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typically used to connect low speed peripherals to embedded systems, motherboard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D7C49-6C84-438E-91D5-4898797095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GT16’s 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Modul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T16 has a dedicated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unit sends and receive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be the master or sla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speed is 100k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contro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97480" y="2592360"/>
            <a:ext cx="2540160" cy="254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095E-D1A2-42F9-B656-7FA3D6A116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GT16’s 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Modul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70320" y="1600200"/>
            <a:ext cx="420336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EF417-C74E-4955-9B61-D971CB44AF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GT16’s 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Modul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71680" y="1600200"/>
            <a:ext cx="620064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533520" y="1981080"/>
            <a:ext cx="3809880" cy="1752840"/>
            <a:chOff x="533520" y="1981080"/>
            <a:chExt cx="3809880" cy="1752840"/>
          </a:xfrm>
        </p:grpSpPr>
        <p:grpSp>
          <p:nvGrpSpPr>
            <p:cNvPr id="109" name=""/>
            <p:cNvGrpSpPr/>
            <p:nvPr/>
          </p:nvGrpSpPr>
          <p:grpSpPr>
            <a:xfrm>
              <a:off x="990720" y="2209680"/>
              <a:ext cx="3352680" cy="1524240"/>
              <a:chOff x="990720" y="2209680"/>
              <a:chExt cx="3352680" cy="1524240"/>
            </a:xfrm>
          </p:grpSpPr>
          <p:sp>
            <p:nvSpPr>
              <p:cNvPr id="110" name=""/>
              <p:cNvSpPr/>
              <p:nvPr/>
            </p:nvSpPr>
            <p:spPr>
              <a:xfrm>
                <a:off x="4114800" y="3429000"/>
                <a:ext cx="228600" cy="304920"/>
              </a:xfrm>
              <a:prstGeom prst="rect">
                <a:avLst/>
              </a:prstGeom>
              <a:noFill/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990720" y="2209680"/>
                <a:ext cx="3124080" cy="137160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533520" y="1981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F194F-A876-48B8-8E14-065692F9A4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Connection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only uses two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A – Seri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L – Serial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 capacitance limits the speed of 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imits the speed of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devices to below 400k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167440" cy="149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92BFB-EFDE-4EDC-93B3-6212F496F6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Multiple 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Connection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tocol allows many slaves to be connected to one master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device has a 7-bit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ddress is often set by tying pins on the actual device HIGH or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ther address values are built into the device, based on what type of device i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A sample schematic with one master (a microcontroller) and three slave nodes (an ADC, a DAC, and another microcontroller) with pull-up resistors R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1523880"/>
            <a:ext cx="5867640" cy="207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C76CD-F432-4731-A298-B2A6DFF4CE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Data Transfer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ith SPI, the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master supplies the clock on the SC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DA line can only change when the SCL line is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SCL line is LOW the next bit of data is clocked onto the SDA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done for each bit in turn starting with the M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11EA-9A56-49BB-BEC5-C96A759E39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Start and Stop bit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ignal the start of data transmission the SDA line changes from HIGH to LOW while the SCL line is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known as the start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ndicate the end of data transmission the SDA line brought from LOW to HIGH while the SCL line is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known as the stop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art from the Start and Stop condition, the SDA line must never change state while SCL is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77A79-4E56-4CD4-8FE6-3B3D41BDF7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Data Acknowledgemen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is more complex than S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ster device must be able to check whether a device is present and respo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ever a byte of data has been transmitted , the receiving device pulls the SDA line LOW for one bi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known as the acknowledge 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st can now check if the slave received its data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CFEBD-C286-4962-9B1C-718D819603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Timing Diagram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003400" y="1600200"/>
            <a:ext cx="51372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27D6-2EE1-4190-A564-B860D13F9E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Physical Connection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devices have either open collector or open drain outputs on their SDA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ine is pulled up by an external resi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ans that devices can not damage each other by asserting different logic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A simplified schematic of the externalized (open) collector of an integrated circuit (IC)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82880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035F1-4710-4724-B334-B26ADD713A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Device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devic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Cxx EEPROM c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24 indicates that is an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device and the xx represents the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E4BE6-2795-4CB5-AF67-6D5A20EC9F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09:44:31Z</dcterms:created>
  <dc:creator>Robyn Verrinder</dc:creator>
  <dc:description/>
  <dc:language>en-US</dc:language>
  <cp:lastModifiedBy>Robyn Verrinder</cp:lastModifiedBy>
  <dcterms:modified xsi:type="dcterms:W3CDTF">2008-05-07T12:15:14Z</dcterms:modified>
  <cp:revision>16</cp:revision>
  <dc:subject/>
  <dc:title>Inter Integrated Circuit Bus</dc:title>
</cp:coreProperties>
</file>